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2E1B-A486-4C42-B6A6-1B8723F25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D5BD-250E-4E85-B9E2-6517CEC05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807D-6ED0-46A4-8614-02A3E05CB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68C7-3FD9-4C10-B3F6-C985987A4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6F29-D475-4C20-B219-DFD46C021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7E72-CDC3-4C6D-9B36-0FB1D6375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4D8A-0F73-4992-B14D-74137CF42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68C0-0271-4A30-9F02-0AC4A5B48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8A01-D73C-496D-8608-90CED517D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8493-0012-4AEA-B110-525E4ABC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150D-096E-4271-8F11-B3F3710F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4CA4-7DF9-49ED-AD36-9E37BD198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E2EA3-3F03-44B6-BF9A-FD26E95EE5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2. Temporaalloogik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oraalloogika mõiste hõlmab laiemalt kõiki lähenemisi, kus loogika struktuuri tuuakse sisse ajalise info esitused, ja kitsamalt modaalloogilist lähenemist, mis algselt võeti kasutusele ajaloogika (Tense Logic) nime a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 kus kehtivad kaks ajalise järelduse reegli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H: 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õestusest saab tuletada H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õest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G: 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õestusest saab tuletada G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õest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g muidugi kõik tavalise lausearvutuse reegli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oreemid väljendavad ajaoperaatorite neid omadusi, mis ei sõltu mingitest eeldustest ajalise järjestuse koh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jaloogika saadakse ajaoperaatorite lisamisega olemasolevale loogikale. Samamoodi nagu lausearvutusele, võime lisada need ka predikaatarvutuse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äide.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uset 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osoof saab kuningaks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õib tõlgendada mitmel erineval moe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(Filosoof(x) &amp; Kuningas(x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gi, kes on praegu filosoof, saab mingil ajal tulevikus kuningaks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(Filosoof(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&amp; Kuningas(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)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egu on olemas keegi, kes mingil ajal tulevikus on nii filosoof kui kuningas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</a:t>
            </a:r>
            <a:r>
              <a:rPr b="0" lang="en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ilosoof(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&amp; F Kuningas(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kkab olemas olema keegi, kes on filosoof ja kellest saab hiljem kuningas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</a:t>
            </a:r>
            <a:r>
              <a:rPr b="0" lang="en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ilosoof(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&amp; Kuningas(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kkab olemas olema keegi, kes on nii filosoof kui kuningas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emite tõlgendamisel on väga oluline, et kvantorite mõjupiirkond sõltub ajast.Võetakse kasutusele kvantorite mõjupiirkond D(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aja 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ao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. Ajaloogika laiendu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aarsed ajaoperaatorid S ja U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“alates” ja “kuni”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q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olnud tõene alates ajast, kui 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tõene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q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tõene selle ajani, kui 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tõene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etriline ajaloogika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p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javahemiku 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ärast hakkab kehtima 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i 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, saame oleviku. Võime üldised operaatorid ümber defineerid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0 &amp; F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p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0 &amp; F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p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0 </a:t>
            </a:r>
            <a:r>
              <a:rPr b="0" lang="e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p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0 </a:t>
            </a:r>
            <a:r>
              <a:rPr b="0" lang="e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p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ärgmise hetke” operaator 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eld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takse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t ajajadad koosnevad diskreetsetest atomaarsetest ajaühikutest. O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ähendab, et 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tõene vahetult järgneval ajaühiku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i eeldame, et aeg on diskreetne, siis võime operaatori O defineerida ni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</a:t>
            </a:r>
            <a:r>
              <a:rPr b="0" lang="en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. 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kkab olema tõene mingil hetkel tulevikus, ning selle hetke ja oleviku vahel ei ole miski tõe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3 Ajaloogika semantik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oraalne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</a:rPr>
              <a:t>raam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osneb hulgast T, mis on “aegade” hulk, ja järjestusseosest &lt; hulgal T, mis defineerib aja liikumis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jaloogika keele interpretatsioon määrab tõeväärtuse igale aatomvalemile igal ajahetkel antud ajalises raamis. Siis võime defineerida nõrkade ajaoperaatorite tähendused järgmisel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is võime defineerida nõrkade ajaoperaatorite tähendused järgmisel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tõene hetkel 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is ja ainult siis, kui 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tõene mingil ajal 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, kus 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’&lt;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tõene hetkel 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is ja ainult siis, kui 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tõene mingil ajal 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, kus 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’&gt;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 nende kaudu tugevate ajaoperaatorite tähendus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 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tõene hetkel 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is ja ainult siis, kui 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tõene kõikidel aegadel 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’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us 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’&lt;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tõene hetkel 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is ja ainult siis, kui 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tõene kõikidel aegadel 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’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us 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’&gt;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oraalloogikat kasutatakse aega puudutavate filosoofiliste küsimuste esitamiseks ja selgitamiseks, loomulike keelte ajaväljendite semantika defineerimisel, intellektitehnikas aja kohta käivate teadmiste kirjelduskeelena, arvutiprogrammide täitmise aja-aspektide käsitlemise vahendina j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üüd võime öelda, et K</a:t>
            </a:r>
            <a:r>
              <a:rPr b="0" lang="en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oreemid on täpselt sellised valemid, mis on tõesed kõigil aegadel kõikides interpretatsioonides ja kõikide temporaalsete raamide jao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ikaatarvutuslik lähenemin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Temporaalsed argumend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jaline aspekt tuuakse sisse, lisades igale ajamuutujatega lausele või predikaadile veel ühe argumend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äid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ll (Brutus, Caesar, 44B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ame esimest järku keelde infikspredikaadi &lt;, mis tähendab ajalist järjestust “varem kui” ja konstandi “praegu”, mis tähistab käesolevat hetke. Tähistagu 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tulemust, mis saadakse aja-argumendi lisamisel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 esinevatesse predikaatidesse, si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praegu &amp; 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raegu&lt;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amp;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praegu </a:t>
            </a:r>
            <a:r>
              <a:rPr b="0" lang="e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raegu&lt;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0" lang="e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 Seisundi- ja sündmusetüüb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oraalsete argumentide meetodit kasutades tekivad raskused, kui tahetakse eristada näiteks seisundeid, sündmusi ja protses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usetel, mis kirjeldavad seisundit (“Mari magab”) on homogeenne ajaline loomus, s.t. kui nad kehtivad mingi ajavahemiku jaoks, siis kehtivad nad ka selle vahemiku kõigi alamvahemike jaoks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iselt poolt, lausetel, mis kirjeldavad sündmusi (“Jaan kõnnib jaama”), on mittehomogeenne loomus, s.t. lause ei kehti vahemiku kõigi alamvahemike jao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isundi- ja sündmuse-tüüpi protsesside meetodis kirjeldatakse nii seisundi- kui sündmusetüüpe esimest järku teooria terminites ja nende temporaalset loomust väljendatakse relatsiooniliste predikaatide “Kehtib” ja “Ilmneb” kaud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ä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htib(Magab(Mari), (13.00,18.00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mneb(Kõnnib(Jaan,jaam), (13.00,13.15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isundite homogeensus ja sündmuste mittehomegeensus on kindlustatud aksioomide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,i,i’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Kehtib(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,i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&amp; Vahe(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’,i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ehtib(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,i’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,i,i′(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mneb(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,i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&amp; Vahe(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′,i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→ ¬Ilmneb(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,i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′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aalloogiline lähenemine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Ajaloogik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jaloogika keel sisaldab lisaks tavalistele operaatoritele nelja modaalset operaatorit, mille tähendused on järgmis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 : “Mõnda aega on kehtinud, et…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: “Mingil hetkel hakkab kehtima, et…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: “Alati on kehtinud, et…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 : “Alati hakkab kehtima, et…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 ja F nimetatakse 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õrkadeks ajaoperaatoriteks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ja G 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gevateks ajaoperaatoriteks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valiseks loetakse, et kehtivad samaväärsus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n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äiteid valemitest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Mis alati on, see 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(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G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i 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t järeldub alati 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iis juhul kui 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ati kehtib, kehtib ka 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F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i 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kkab mingil hetkel kehtima, siis hakkab vahepeal kehtima, et ta hakkab kehtima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i 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i hakka kunagi kehtima, siis hakkab kehtima, et 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i hakka kunagi kehtima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loodud ja uuritud erinevaid ajaloogika süsteeme, valides erinevaid aksioomide kombinatsioon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äide.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alne ajaloogika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</a:t>
            </a:r>
            <a:r>
              <a:rPr b="0" lang="en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mille genereerivad neli aksioom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F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htiva kohta on alati kehtinud, et see hakkab kehtima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P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htiv on alati kehtinu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(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H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, mis alati järeldub sellest, mis on alati kehtinud, on alati kehtinu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(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G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, mis alati järeldub sellest, mis alati hakkab kehtima, hakkab alati kehtima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1T09:37:19Z</dcterms:created>
  <dc:creator>Tiina Zingel</dc:creator>
  <dc:description/>
  <dc:language>en-US</dc:language>
  <cp:lastModifiedBy>Tiina Zingel</cp:lastModifiedBy>
  <dcterms:modified xsi:type="dcterms:W3CDTF">2006-05-11T09:38:59Z</dcterms:modified>
  <cp:revision>1</cp:revision>
  <dc:subject/>
  <dc:title>11.2. Temporaalloogika.</dc:title>
</cp:coreProperties>
</file>